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gif" ContentType="image/gi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A7E64-5D5C-48E2-B862-64D9B018B7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73CF4-77D1-45F3-805A-4A16F85F696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E6D83-921F-4031-BC0A-3605C50A573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3B026-AFCA-46EE-AEC4-1E3E1476C7E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80B80-9506-4B0C-B1A9-73411DF4340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95B2D-5A59-44A6-B171-407EB3964C4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28B43-8070-4487-B2EC-F9941A5EB92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24357-7363-453E-8AD9-1485EE1527E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18F71-697E-4EF7-A7B1-8019A4B45A4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2242C-2D0F-4252-A3E6-C7F8B14A085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CE57D-5DAF-4427-B1AC-3491F60001B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1EA2-D783-476A-9400-68B5DAC97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3A77-9FAD-41D1-AF6F-040FC3390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4A87-619D-41A4-9D09-42DDAEC31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3EBD-8801-414B-B582-33CDEA34B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FD597-2F80-4CBA-A514-4F8E6553D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A7BC7-1847-430C-B1F7-A078D7602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40C9D-2636-46F4-BBBC-477B674A3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486F3-030C-4600-8636-F44777F90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4E0C5-07A0-47FC-A8AD-1EE2257F4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E8603-4A38-468B-95A3-E7291ADFA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009C4-923D-49BA-86BA-4861A2A12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DECD-7B81-4DAA-8C89-48A386359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858A4-C1C7-4A04-AF0D-35A2D23C7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47ED5-1248-421C-B9A5-63878EA6C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95E37-B183-4425-882F-22B3F082D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48F0E-BCCD-4979-B01F-BBF22242F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D6DC6-07DA-4788-B9DF-CD224C659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9A3D-1DB7-4FD7-9FBD-7F5B63DBD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ADDA-98C3-4F8F-80A6-C7956F779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99A4-876D-4CF3-AF4D-9C75FBFEE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11FB-BD23-43AD-89B5-947C25F67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0E98-AB95-4D9B-AED2-287FCCF17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995C-46A7-4BDC-91B0-114CA4303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519D-3BD0-4F35-BBFD-0F8580C1E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9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8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9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10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11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17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18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19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20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21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22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Freeform 23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Rectangle 25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27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28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29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30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Rectangle 34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35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36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Freeform 37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38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39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Freeform 40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Freeform 41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Freeform 42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Freeform 43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Rectangle 44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420F7-B765-42D2-82F3-26D37CBB1A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50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35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Freeform 36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37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38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1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2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3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4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15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Freeform 16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Freeform 17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Rectangle 18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Freeform 20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Freeform 21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Freeform 22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Freeform 23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Rectangle 27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Freeform 28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29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Freeform 30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Freeform 31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Freeform 32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Freeform 33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Freeform 34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Freeform 35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Freeform 36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Rectangle 37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Rectangle 45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Rectangle 46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Picture 43" descr="BTZBUL1A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7956A-0C05-4D94-A8E1-C58DC4B770D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Legislative Branch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OPEN NOTE QUIZ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VE YOUR NOTES READY &amp; A SEPARATE SHEET OF PAP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 QUESTIONS –MULTIPLE CHO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RITE THE LETTER OF THE CORRECT ANSW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STING ATMOSP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533520"/>
            <a:ext cx="9144000" cy="618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9. A committee that includes members of both houses of Congress is called a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A. Standing committee</a:t>
            </a:r>
            <a:br>
              <a:rPr sz="4400"/>
            </a:b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B. Joint committee</a:t>
            </a:r>
            <a:br>
              <a:rPr sz="4400"/>
            </a:b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C. Select committee</a:t>
            </a:r>
            <a:br>
              <a:rPr sz="4400"/>
            </a:b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D. Subcommittee</a:t>
            </a:r>
            <a:br>
              <a:rPr sz="4400"/>
            </a:b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314840" y="6095880"/>
            <a:ext cx="1143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840" y="-7920"/>
            <a:ext cx="9144000" cy="753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 Black"/>
              </a:rPr>
              <a:t>10. Congress can not pass any laws that are in opposition to the 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66"/>
                </a:solidFill>
                <a:latin typeface="Arial Black"/>
              </a:rPr>
              <a:t>A. United States Constitution</a:t>
            </a:r>
            <a:br>
              <a:rPr sz="4000"/>
            </a:br>
            <a:r>
              <a:rPr b="0" lang="en-US" sz="4000" spc="-1" strike="noStrike">
                <a:solidFill>
                  <a:srgbClr val="000066"/>
                </a:solidFill>
                <a:latin typeface="Arial Black"/>
              </a:rPr>
              <a:t>B. precedents set by past </a:t>
            </a:r>
            <a:r>
              <a:rPr b="0" lang="en-US" sz="4000" spc="-1" strike="noStrike">
                <a:solidFill>
                  <a:srgbClr val="000066"/>
                </a:solidFill>
                <a:latin typeface="Arial Black"/>
              </a:rPr>
              <a:t>	</a:t>
            </a:r>
            <a:r>
              <a:rPr b="0" lang="en-US" sz="4000" spc="-1" strike="noStrike">
                <a:solidFill>
                  <a:srgbClr val="000066"/>
                </a:solidFill>
                <a:latin typeface="Arial Black"/>
              </a:rPr>
              <a:t>administrations</a:t>
            </a:r>
            <a:br>
              <a:rPr sz="4000"/>
            </a:br>
            <a:r>
              <a:rPr b="0" lang="en-US" sz="4000" spc="-1" strike="noStrike">
                <a:solidFill>
                  <a:srgbClr val="000066"/>
                </a:solidFill>
                <a:latin typeface="Arial Black"/>
              </a:rPr>
              <a:t>C. actions of the executive </a:t>
            </a:r>
            <a:r>
              <a:rPr b="0" lang="en-US" sz="4000" spc="-1" strike="noStrike">
                <a:solidFill>
                  <a:srgbClr val="000066"/>
                </a:solidFill>
                <a:latin typeface="Arial Black"/>
              </a:rPr>
              <a:t>	</a:t>
            </a:r>
            <a:r>
              <a:rPr b="0" lang="en-US" sz="4000" spc="-1" strike="noStrike">
                <a:solidFill>
                  <a:srgbClr val="000066"/>
                </a:solidFill>
                <a:latin typeface="Arial Black"/>
              </a:rPr>
              <a:t>branch</a:t>
            </a:r>
            <a:r>
              <a:rPr b="0" lang="en-US" sz="4000" spc="-1" strike="noStrike">
                <a:solidFill>
                  <a:srgbClr val="000066"/>
                </a:solidFill>
                <a:latin typeface="Arial Black"/>
              </a:rPr>
              <a:t>	</a:t>
            </a:r>
            <a:br>
              <a:rPr sz="4000"/>
            </a:br>
            <a:r>
              <a:rPr b="0" lang="en-US" sz="4000" spc="-1" strike="noStrike">
                <a:solidFill>
                  <a:srgbClr val="000066"/>
                </a:solidFill>
                <a:latin typeface="Arial Black"/>
              </a:rPr>
              <a:t>D. laws established by the </a:t>
            </a:r>
            <a:r>
              <a:rPr b="0" lang="en-US" sz="4000" spc="-1" strike="noStrike">
                <a:solidFill>
                  <a:srgbClr val="000066"/>
                </a:solidFill>
                <a:latin typeface="Arial Black"/>
              </a:rPr>
              <a:t>	</a:t>
            </a:r>
            <a:r>
              <a:rPr b="0" lang="en-US" sz="4000" spc="-1" strike="noStrike">
                <a:solidFill>
                  <a:srgbClr val="000066"/>
                </a:solidFill>
                <a:latin typeface="Arial Black"/>
              </a:rPr>
              <a:t>fifty states</a:t>
            </a:r>
            <a:br>
              <a:rPr sz="4000"/>
            </a:b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467480" y="6324120"/>
            <a:ext cx="990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2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1121760"/>
            <a:ext cx="9144000" cy="594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66"/>
                </a:solidFill>
                <a:latin typeface="Arial Black"/>
              </a:rPr>
              <a:t>1.</a:t>
            </a:r>
            <a:r>
              <a:rPr b="0" lang="en-US" sz="4800" spc="-1" strike="noStrike">
                <a:solidFill>
                  <a:srgbClr val="000066"/>
                </a:solidFill>
                <a:latin typeface="Arial Black"/>
              </a:rPr>
              <a:t>	</a:t>
            </a:r>
            <a:r>
              <a:rPr b="0" lang="en-US" sz="4800" spc="-1" strike="noStrike">
                <a:solidFill>
                  <a:srgbClr val="000066"/>
                </a:solidFill>
                <a:latin typeface="Arial Black"/>
              </a:rPr>
              <a:t>How long is a term for a member of the Senate?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000066"/>
                </a:solidFill>
                <a:latin typeface="Arial Black"/>
              </a:rPr>
              <a:t>A.</a:t>
            </a:r>
            <a:r>
              <a:rPr b="0" lang="en-US" sz="4800" spc="-1" strike="noStrike">
                <a:solidFill>
                  <a:srgbClr val="000066"/>
                </a:solidFill>
                <a:latin typeface="Arial Black"/>
              </a:rPr>
              <a:t>	</a:t>
            </a:r>
            <a:r>
              <a:rPr b="0" lang="en-US" sz="4800" spc="-1" strike="noStrike">
                <a:solidFill>
                  <a:srgbClr val="000066"/>
                </a:solidFill>
                <a:latin typeface="Arial Black"/>
              </a:rPr>
              <a:t>2 years</a:t>
            </a:r>
            <a:br>
              <a:rPr sz="4800"/>
            </a:br>
            <a:r>
              <a:rPr b="0" lang="en-US" sz="4800" spc="-1" strike="noStrike">
                <a:solidFill>
                  <a:srgbClr val="000066"/>
                </a:solidFill>
                <a:latin typeface="Arial Black"/>
              </a:rPr>
              <a:t>B.</a:t>
            </a:r>
            <a:r>
              <a:rPr b="0" lang="en-US" sz="4800" spc="-1" strike="noStrike">
                <a:solidFill>
                  <a:srgbClr val="000066"/>
                </a:solidFill>
                <a:latin typeface="Arial Black"/>
              </a:rPr>
              <a:t>	</a:t>
            </a:r>
            <a:r>
              <a:rPr b="0" lang="en-US" sz="4800" spc="-1" strike="noStrike">
                <a:solidFill>
                  <a:srgbClr val="000066"/>
                </a:solidFill>
                <a:latin typeface="Arial Black"/>
              </a:rPr>
              <a:t>3 years</a:t>
            </a:r>
            <a:br>
              <a:rPr sz="4800"/>
            </a:br>
            <a:r>
              <a:rPr b="0" lang="en-US" sz="4800" spc="-1" strike="noStrike">
                <a:solidFill>
                  <a:srgbClr val="000066"/>
                </a:solidFill>
                <a:latin typeface="Arial Black"/>
              </a:rPr>
              <a:t>C.</a:t>
            </a:r>
            <a:r>
              <a:rPr b="0" lang="en-US" sz="4800" spc="-1" strike="noStrike">
                <a:solidFill>
                  <a:srgbClr val="000066"/>
                </a:solidFill>
                <a:latin typeface="Arial Black"/>
              </a:rPr>
              <a:t>	</a:t>
            </a:r>
            <a:r>
              <a:rPr b="0" lang="en-US" sz="4800" spc="-1" strike="noStrike">
                <a:solidFill>
                  <a:srgbClr val="000066"/>
                </a:solidFill>
                <a:latin typeface="Arial Black"/>
              </a:rPr>
              <a:t>4 years</a:t>
            </a:r>
            <a:br>
              <a:rPr sz="4800"/>
            </a:br>
            <a:r>
              <a:rPr b="0" lang="en-US" sz="4800" spc="-1" strike="noStrike">
                <a:solidFill>
                  <a:srgbClr val="000066"/>
                </a:solidFill>
                <a:latin typeface="Arial Black"/>
              </a:rPr>
              <a:t>D.</a:t>
            </a:r>
            <a:r>
              <a:rPr b="0" lang="en-US" sz="4800" spc="-1" strike="noStrike">
                <a:solidFill>
                  <a:srgbClr val="000066"/>
                </a:solidFill>
                <a:latin typeface="Arial Black"/>
              </a:rPr>
              <a:t>	</a:t>
            </a:r>
            <a:r>
              <a:rPr b="0" lang="en-US" sz="4800" spc="-1" strike="noStrike">
                <a:solidFill>
                  <a:srgbClr val="000066"/>
                </a:solidFill>
                <a:latin typeface="Arial Black"/>
              </a:rPr>
              <a:t>6 years</a:t>
            </a:r>
            <a:br>
              <a:rPr sz="4800"/>
            </a:b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-76320" y="313920"/>
            <a:ext cx="9144000" cy="686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2.</a:t>
            </a: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	</a:t>
            </a: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Which powers of Congress are based upon the Necessary and Proper (Elastic) clause?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A.</a:t>
            </a: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	</a:t>
            </a: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Advanced powers</a:t>
            </a:r>
            <a:br>
              <a:rPr sz="4400"/>
            </a:b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B.</a:t>
            </a: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	</a:t>
            </a: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Expressed powers</a:t>
            </a:r>
            <a:br>
              <a:rPr sz="4400"/>
            </a:b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C.</a:t>
            </a: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	</a:t>
            </a: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Implied powers</a:t>
            </a:r>
            <a:br>
              <a:rPr sz="4400"/>
            </a:b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D.</a:t>
            </a: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	</a:t>
            </a: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Reserved powers</a:t>
            </a:r>
            <a:br>
              <a:rPr sz="4400"/>
            </a:b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600" y="195120"/>
            <a:ext cx="9144000" cy="686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3.</a:t>
            </a: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	</a:t>
            </a: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Which article of the Constitution established the legislative branch of government?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A.</a:t>
            </a: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	</a:t>
            </a: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Article 1</a:t>
            </a:r>
            <a:br>
              <a:rPr sz="4400"/>
            </a:b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B.</a:t>
            </a: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	</a:t>
            </a: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Article 2</a:t>
            </a:r>
            <a:br>
              <a:rPr sz="4400"/>
            </a:b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C.</a:t>
            </a: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	</a:t>
            </a: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Article 3 </a:t>
            </a:r>
            <a:br>
              <a:rPr sz="4400"/>
            </a:b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D.</a:t>
            </a: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	</a:t>
            </a: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Article 4</a:t>
            </a:r>
            <a:br>
              <a:rPr sz="4400"/>
            </a:b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271080"/>
            <a:ext cx="7772400" cy="692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060"/>
                </a:solidFill>
                <a:latin typeface="Arial Black"/>
              </a:rPr>
              <a:t>4.</a:t>
            </a:r>
            <a:r>
              <a:rPr b="0" lang="en-US" sz="4000" spc="-1" strike="noStrike">
                <a:solidFill>
                  <a:srgbClr val="002060"/>
                </a:solidFill>
                <a:latin typeface="Arial Black"/>
              </a:rPr>
              <a:t>	</a:t>
            </a:r>
            <a:r>
              <a:rPr b="0" lang="en-US" sz="4000" spc="-1" strike="noStrike">
                <a:solidFill>
                  <a:srgbClr val="002060"/>
                </a:solidFill>
                <a:latin typeface="Arial Black"/>
              </a:rPr>
              <a:t>In both houses of Congress, whose job is it to persuade all members of the party to vote together on the issues?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2060"/>
                </a:solidFill>
                <a:latin typeface="Arial Black"/>
              </a:rPr>
              <a:t>A.</a:t>
            </a:r>
            <a:r>
              <a:rPr b="0" lang="en-US" sz="4000" spc="-1" strike="noStrike">
                <a:solidFill>
                  <a:srgbClr val="002060"/>
                </a:solidFill>
                <a:latin typeface="Arial Black"/>
              </a:rPr>
              <a:t>	</a:t>
            </a:r>
            <a:r>
              <a:rPr b="0" lang="en-US" sz="4000" spc="-1" strike="noStrike">
                <a:solidFill>
                  <a:srgbClr val="002060"/>
                </a:solidFill>
                <a:latin typeface="Arial Black"/>
              </a:rPr>
              <a:t>Party whip</a:t>
            </a:r>
            <a:br>
              <a:rPr sz="4000"/>
            </a:br>
            <a:r>
              <a:rPr b="0" lang="en-US" sz="4000" spc="-1" strike="noStrike">
                <a:solidFill>
                  <a:srgbClr val="002060"/>
                </a:solidFill>
                <a:latin typeface="Arial Black"/>
              </a:rPr>
              <a:t>B.</a:t>
            </a:r>
            <a:r>
              <a:rPr b="0" lang="en-US" sz="4000" spc="-1" strike="noStrike">
                <a:solidFill>
                  <a:srgbClr val="002060"/>
                </a:solidFill>
                <a:latin typeface="Arial Black"/>
              </a:rPr>
              <a:t>	</a:t>
            </a:r>
            <a:r>
              <a:rPr b="0" lang="en-US" sz="4000" spc="-1" strike="noStrike">
                <a:solidFill>
                  <a:srgbClr val="002060"/>
                </a:solidFill>
                <a:latin typeface="Arial Black"/>
              </a:rPr>
              <a:t>President Pro Tempore</a:t>
            </a:r>
            <a:br>
              <a:rPr sz="4000"/>
            </a:br>
            <a:r>
              <a:rPr b="0" lang="en-US" sz="4000" spc="-1" strike="noStrike">
                <a:solidFill>
                  <a:srgbClr val="002060"/>
                </a:solidFill>
                <a:latin typeface="Arial Black"/>
              </a:rPr>
              <a:t>C.</a:t>
            </a:r>
            <a:r>
              <a:rPr b="0" lang="en-US" sz="4000" spc="-1" strike="noStrike">
                <a:solidFill>
                  <a:srgbClr val="002060"/>
                </a:solidFill>
                <a:latin typeface="Arial Black"/>
              </a:rPr>
              <a:t>	</a:t>
            </a:r>
            <a:r>
              <a:rPr b="0" lang="en-US" sz="4000" spc="-1" strike="noStrike">
                <a:solidFill>
                  <a:srgbClr val="002060"/>
                </a:solidFill>
                <a:latin typeface="Arial Black"/>
              </a:rPr>
              <a:t>Speaker of the House</a:t>
            </a:r>
            <a:br>
              <a:rPr sz="4000"/>
            </a:br>
            <a:r>
              <a:rPr b="0" lang="en-US" sz="4000" spc="-1" strike="noStrike">
                <a:solidFill>
                  <a:srgbClr val="002060"/>
                </a:solidFill>
                <a:latin typeface="Arial Black"/>
              </a:rPr>
              <a:t>D.</a:t>
            </a:r>
            <a:r>
              <a:rPr b="0" lang="en-US" sz="4000" spc="-1" strike="noStrike">
                <a:solidFill>
                  <a:srgbClr val="002060"/>
                </a:solidFill>
                <a:latin typeface="Arial Black"/>
              </a:rPr>
              <a:t>	</a:t>
            </a:r>
            <a:r>
              <a:rPr b="0" lang="en-US" sz="4000" spc="-1" strike="noStrike">
                <a:solidFill>
                  <a:srgbClr val="002060"/>
                </a:solidFill>
                <a:latin typeface="Arial Black"/>
              </a:rPr>
              <a:t>Party President</a:t>
            </a:r>
            <a:br>
              <a:rPr sz="4000"/>
            </a:b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195120"/>
            <a:ext cx="9144000" cy="686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5. Who is the President of the Senate?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A.</a:t>
            </a: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	</a:t>
            </a: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The Secretary of State</a:t>
            </a:r>
            <a:br>
              <a:rPr sz="4400"/>
            </a:b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B.</a:t>
            </a: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	</a:t>
            </a: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The Senate Majority      </a:t>
            </a: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	</a:t>
            </a: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Leader</a:t>
            </a:r>
            <a:br>
              <a:rPr sz="4400"/>
            </a:b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C.</a:t>
            </a: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	</a:t>
            </a: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The Speaker of the House</a:t>
            </a:r>
            <a:br>
              <a:rPr sz="4400"/>
            </a:b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D.</a:t>
            </a: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	</a:t>
            </a: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The Vice-President of the </a:t>
            </a: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	</a:t>
            </a: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United States</a:t>
            </a:r>
            <a:br>
              <a:rPr sz="4400"/>
            </a:b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-109440"/>
            <a:ext cx="9144000" cy="754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6. The members of both the majority and minority parties have traditionally selected committee chairpersons on the basis of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A.</a:t>
            </a: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	</a:t>
            </a: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Age</a:t>
            </a:r>
            <a:br>
              <a:rPr sz="4400"/>
            </a:b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B.</a:t>
            </a: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	</a:t>
            </a: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Education</a:t>
            </a:r>
            <a:br>
              <a:rPr sz="4400"/>
            </a:b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C.</a:t>
            </a: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	</a:t>
            </a: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Geography</a:t>
            </a:r>
            <a:br>
              <a:rPr sz="4400"/>
            </a:b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D.</a:t>
            </a: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	</a:t>
            </a: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Seniority</a:t>
            </a:r>
            <a:br>
              <a:rPr sz="4400"/>
            </a:b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4419720" y="137160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-640080"/>
            <a:ext cx="9144000" cy="821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7. How is the number of representatives from each state determined?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A. The Senate decides</a:t>
            </a:r>
            <a:br>
              <a:rPr sz="4400"/>
            </a:b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B. State legislators decide</a:t>
            </a:r>
            <a:br>
              <a:rPr sz="4400"/>
            </a:b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C. The numbers are stated in </a:t>
            </a: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	</a:t>
            </a: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the Constitution</a:t>
            </a:r>
            <a:br>
              <a:rPr sz="4400"/>
            </a:b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D. The number is based on </a:t>
            </a: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	</a:t>
            </a: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census results</a:t>
            </a:r>
            <a:br>
              <a:rPr sz="4400"/>
            </a:b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685800" y="5562360"/>
            <a:ext cx="7772400" cy="53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04920"/>
            <a:ext cx="10972800" cy="762012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3240"/>
            <a:ext cx="9144000" cy="754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 Black"/>
              </a:rPr>
              <a:t>8. Which of the following are the two current Senators from the state of Tennessee?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66"/>
                </a:solidFill>
                <a:latin typeface="Arial Black"/>
              </a:rPr>
              <a:t>A. Zach Wamp and Bob Corker</a:t>
            </a:r>
            <a:br>
              <a:rPr sz="4000"/>
            </a:br>
            <a:r>
              <a:rPr b="0" lang="en-US" sz="4000" spc="-1" strike="noStrike">
                <a:solidFill>
                  <a:srgbClr val="000066"/>
                </a:solidFill>
                <a:latin typeface="Arial Black"/>
              </a:rPr>
              <a:t>B. Lamar Alexander and Bob </a:t>
            </a:r>
            <a:r>
              <a:rPr b="0" lang="en-US" sz="4000" spc="-1" strike="noStrike">
                <a:solidFill>
                  <a:srgbClr val="000066"/>
                </a:solidFill>
                <a:latin typeface="Arial Black"/>
              </a:rPr>
              <a:t>	</a:t>
            </a:r>
            <a:r>
              <a:rPr b="0" lang="en-US" sz="4000" spc="-1" strike="noStrike">
                <a:solidFill>
                  <a:srgbClr val="000066"/>
                </a:solidFill>
                <a:latin typeface="Arial Black"/>
              </a:rPr>
              <a:t>Corker</a:t>
            </a:r>
            <a:br>
              <a:rPr sz="4000"/>
            </a:br>
            <a:r>
              <a:rPr b="0" lang="en-US" sz="4000" spc="-1" strike="noStrike">
                <a:solidFill>
                  <a:srgbClr val="000066"/>
                </a:solidFill>
                <a:latin typeface="Arial Black"/>
              </a:rPr>
              <a:t>C. Bill Frist and Lamar </a:t>
            </a:r>
            <a:r>
              <a:rPr b="0" lang="en-US" sz="4000" spc="-1" strike="noStrike">
                <a:solidFill>
                  <a:srgbClr val="000066"/>
                </a:solidFill>
                <a:latin typeface="Arial Black"/>
              </a:rPr>
              <a:t>	</a:t>
            </a:r>
            <a:r>
              <a:rPr b="0" lang="en-US" sz="4000" spc="-1" strike="noStrike">
                <a:solidFill>
                  <a:srgbClr val="000066"/>
                </a:solidFill>
                <a:latin typeface="Arial Black"/>
              </a:rPr>
              <a:t>Alexander</a:t>
            </a:r>
            <a:br>
              <a:rPr sz="4000"/>
            </a:br>
            <a:r>
              <a:rPr b="0" lang="en-US" sz="4000" spc="-1" strike="noStrike">
                <a:solidFill>
                  <a:srgbClr val="000066"/>
                </a:solidFill>
                <a:latin typeface="Arial Black"/>
              </a:rPr>
              <a:t>D. Daniel Radcliff and Rupert </a:t>
            </a:r>
            <a:r>
              <a:rPr b="0" lang="en-US" sz="4000" spc="-1" strike="noStrike">
                <a:solidFill>
                  <a:srgbClr val="000066"/>
                </a:solidFill>
                <a:latin typeface="Arial Black"/>
              </a:rPr>
              <a:t>	</a:t>
            </a:r>
            <a:r>
              <a:rPr b="0" lang="en-US" sz="4000" spc="-1" strike="noStrike">
                <a:solidFill>
                  <a:srgbClr val="000066"/>
                </a:solidFill>
                <a:latin typeface="Arial Black"/>
              </a:rPr>
              <a:t>Grint</a:t>
            </a:r>
            <a:br>
              <a:rPr sz="4000"/>
            </a:b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6629400"/>
            <a:ext cx="7772400" cy="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520" bIns="295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1T13:44:01Z</dcterms:created>
  <dc:creator>THOMAS_SAUER</dc:creator>
  <dc:description/>
  <dc:language>en-US</dc:language>
  <cp:lastModifiedBy>SysAdmin</cp:lastModifiedBy>
  <dcterms:modified xsi:type="dcterms:W3CDTF">2011-09-27T15:33:41Z</dcterms:modified>
  <cp:revision>120</cp:revision>
  <dc:subject/>
  <dc:title>D/O: TO EXPLAIN AND IDENTIFY PROBLEMS OF ECONOMICS</dc:title>
</cp:coreProperties>
</file>